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9A6-FCD5-46D6-B5A7-5D7DE7E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BD8-F191-4D05-BE71-5ECC82E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02B-03F7-4CE4-8F9E-44776E3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955-5558-43F7-A5C5-6C66A3D3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775-F454-405F-A101-BB76A95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CB5-BB91-4FEC-842A-FAB10D5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1A6-6332-4D0F-ADEA-F60001F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330-B3CE-4081-9B7D-86CE16C9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55F-D138-49CB-806F-C3E1505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199-BF0D-4669-B571-219D010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48A-7F61-4EF0-A483-02E758B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756-8A65-4718-B930-8C5560D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0"/>
            <a:ext cx="449604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63376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in Wittenberg after her escape from the con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3040" y="533520"/>
            <a:ext cx="55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Martin and Katharina first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o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in Wittenberg in June of 15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in Las Vegas at a wedding chapel on the Str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in Daytona during spring 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in the middle of an electrical storm on their way to the Diet of W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0160" y="533520"/>
            <a:ext cx="64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Luther and Katharina were mar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in Wittenberg in June of 15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0160" y="533520"/>
            <a:ext cx="64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Luther and Katharina were mar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16 dogs, 2 cats and a partridge in a pear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6 children of their own and several others they raised who were orph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a house on the French Riv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 boat, 2 snowmobiles and a Winneb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4120" y="533520"/>
            <a:ext cx="41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and Katie h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6 children of their own and several others they raised who were orph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4120" y="533520"/>
            <a:ext cx="41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and Katie h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Luther’s friends from his days as a Nascar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Luther’s former girl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Luther’s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everybody at the University of Wittenberg who couldn’t get a date on a Saturday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20880" y="533520"/>
            <a:ext cx="58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Luther and Katie oftened 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st and hostes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Luther’s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0880" y="533520"/>
            <a:ext cx="58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Luther and Katie oftened 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st and hostes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preaching sermons and writing books and hy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aking free will offerings at Lenten soup sup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loaning money to his students at exhorbitant interest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teaching Confirmation in local chur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0520" y="533520"/>
            <a:ext cx="590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During their married life,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orted his family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preaching sermons and writing books and hy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20520" y="533520"/>
            <a:ext cx="590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During their married life,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orted his family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er rice pudding rec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inventing pot luck dinners and church cook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selling eggs on the open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running the Luther househol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 firm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21240" y="533520"/>
            <a:ext cx="636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In her later years, Katie Luther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ll known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ise your hand when you think you know an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inners will receive free Mountain D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r the rest of your lif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e Intern Linda for detai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228600"/>
            <a:ext cx="78487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running the Luther househol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 a firm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1240" y="533520"/>
            <a:ext cx="636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In her later years, Katie Luther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ll known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may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no one kn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1960" y="533520"/>
            <a:ext cx="574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Did Katie Luther really in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church potluck din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no one kn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21960" y="533520"/>
            <a:ext cx="574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Did Katie Luther really in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church potluck din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8080" y="228600"/>
            <a:ext cx="76201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 ar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fici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 Scholar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Cathy the B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Katie the C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Katharina von B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the Little Merm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3040" y="53352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Martin Luther’s wife’s nam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Katharina von B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3040" y="53352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Martin Luther’s wife’s nam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the lead singer in an all girl b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out past curfew every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hopelessly in love with Tetzel the pretz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 nun in a con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2680" y="533520"/>
            <a:ext cx="50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Before she married Luth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atharina had be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a nun in a con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2680" y="533520"/>
            <a:ext cx="50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Before she married Luth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atharina had be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iding in a herring barr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riding a barrel over Niagara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pretending to be a barrel of laug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disguising herself as a barrel of mon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2680" y="533520"/>
            <a:ext cx="50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Katharina escaped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ven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hiding in a herring barr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2680" y="533520"/>
            <a:ext cx="50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Katharina escaped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ven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while tubing on the Apple 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during a rock concert at the Target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in Wittenberg after her escape from the con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t Woodstock near the concession 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3040" y="533520"/>
            <a:ext cx="55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Martin and Katharina first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o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04:57:31Z</dcterms:created>
  <dc:creator>Jeffrey T. Funk</dc:creator>
  <dc:description/>
  <dc:language>en-US</dc:language>
  <cp:lastModifiedBy>Wayne C. Deloach</cp:lastModifiedBy>
  <cp:lastPrinted>2004-01-17T18:58:24Z</cp:lastPrinted>
  <dcterms:modified xsi:type="dcterms:W3CDTF">2006-04-13T20:09:11Z</dcterms:modified>
  <cp:revision>243</cp:revision>
  <dc:subject/>
  <dc:title>No Slide Title</dc:title>
</cp:coreProperties>
</file>